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34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3440"/>
              <a:gd name="textAreaBottom" fmla="*/ 10693080 h 10693440"/>
            </a:gdLst>
            <a:ahLst/>
            <a:rect l="textAreaLeft" t="textAreaTop" r="textAreaRight" b="textAreaBottom"/>
            <a:pathLst>
              <a:path w="21600" h="30567">
                <a:moveTo>
                  <a:pt x="4" y="0"/>
                </a:moveTo>
                <a:arcTo wR="4" hR="4" stAng="16200000" swAng="-5400000"/>
                <a:lnTo>
                  <a:pt x="0" y="30563"/>
                </a:lnTo>
                <a:arcTo wR="4" hR="4" stAng="10800000" swAng="-5400000"/>
                <a:lnTo>
                  <a:pt x="21596" y="3056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6400" cy="106934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3440"/>
              <a:gd name="textAreaBottom" fmla="*/ 10693080 h 10693440"/>
            </a:gdLst>
            <a:ahLst/>
            <a:rect l="textAreaLeft" t="textAreaTop" r="textAreaRight" b="textAreaBottom"/>
            <a:pathLst>
              <a:path w="21600" h="30567">
                <a:moveTo>
                  <a:pt x="4" y="0"/>
                </a:moveTo>
                <a:arcTo wR="4" hR="4" stAng="16200000" swAng="-5400000"/>
                <a:lnTo>
                  <a:pt x="0" y="30563"/>
                </a:lnTo>
                <a:arcTo wR="4" hR="4" stAng="10800000" swAng="-5400000"/>
                <a:lnTo>
                  <a:pt x="21596" y="3056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0240" cy="53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280040" y="0"/>
            <a:ext cx="3270240" cy="53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0240" y="801720"/>
            <a:ext cx="49705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06200" y="5079600"/>
            <a:ext cx="5537160" cy="480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3440"/>
            <a:ext cx="3270240" cy="533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80040" y="10153440"/>
            <a:ext cx="3270240" cy="533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E77F9-F962-4FAD-94B5-8C1A0FF89A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280040" y="10415160"/>
            <a:ext cx="327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62870-1303-4A14-B6D0-08D8E92D91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0415160"/>
            <a:ext cx="327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327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5" name=""/>
          <p:cNvSpPr/>
          <p:nvPr/>
        </p:nvSpPr>
        <p:spPr>
          <a:xfrm>
            <a:off x="4280040" y="0"/>
            <a:ext cx="327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80040" y="10415160"/>
            <a:ext cx="327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D901C-FDD6-4665-8526-E58B15D879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0415160"/>
            <a:ext cx="327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327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1" name=""/>
          <p:cNvSpPr/>
          <p:nvPr/>
        </p:nvSpPr>
        <p:spPr>
          <a:xfrm>
            <a:off x="4280040" y="0"/>
            <a:ext cx="327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0600" y="801720"/>
            <a:ext cx="49752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006200" y="5079960"/>
            <a:ext cx="553860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4280" y="2435400"/>
            <a:ext cx="6305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4280" y="2435400"/>
            <a:ext cx="6305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4280" y="2435400"/>
            <a:ext cx="6305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55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4280" y="2435400"/>
            <a:ext cx="6305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4280" y="2435400"/>
            <a:ext cx="6305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4280" y="2435400"/>
            <a:ext cx="6305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4280" y="2435400"/>
            <a:ext cx="6305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14280" y="2435400"/>
            <a:ext cx="6305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4280" y="2435400"/>
            <a:ext cx="6305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4280" y="2435400"/>
            <a:ext cx="6305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4280" y="2435400"/>
            <a:ext cx="6305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4000"/>
              </a:lnSpc>
              <a:spcBef>
                <a:spcPts val="81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554200" cy="755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4280" y="2435400"/>
            <a:ext cx="6305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54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54000"/>
              </a:lnSpc>
              <a:spcBef>
                <a:spcPts val="814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2520" indent="-228600">
              <a:lnSpc>
                <a:spcPct val="154000"/>
              </a:lnSpc>
              <a:spcBef>
                <a:spcPts val="814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5600" indent="-228600">
              <a:lnSpc>
                <a:spcPct val="154000"/>
              </a:lnSpc>
              <a:spcBef>
                <a:spcPts val="814"/>
              </a:spcBef>
              <a:buClr>
                <a:srgbClr val="160ba1"/>
              </a:buClr>
              <a:buFont typeface="Arial Narrow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68320" indent="-228600">
              <a:lnSpc>
                <a:spcPct val="154000"/>
              </a:lnSpc>
              <a:spcBef>
                <a:spcPts val="814"/>
              </a:spcBef>
              <a:buClr>
                <a:srgbClr val="160ba1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68320" indent="-228600">
              <a:lnSpc>
                <a:spcPct val="154000"/>
              </a:lnSpc>
              <a:spcBef>
                <a:spcPts val="814"/>
              </a:spcBef>
              <a:buClr>
                <a:srgbClr val="000000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68320" indent="-228600">
              <a:lnSpc>
                <a:spcPct val="154000"/>
              </a:lnSpc>
              <a:spcBef>
                <a:spcPts val="814"/>
              </a:spcBef>
              <a:buClr>
                <a:srgbClr val="000000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4640" y="2435040"/>
            <a:ext cx="6308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Times New Roman"/>
              </a:rPr>
              <a:t>Dependable Computing</a:t>
            </a:r>
            <a:endParaRPr b="0" lang="en-US" sz="40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22560" y="3673080"/>
            <a:ext cx="630072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eaeaea"/>
                </a:solidFill>
                <a:latin typeface="Arial"/>
              </a:rPr>
              <a:t>Lynn Wheeler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eaeaea"/>
                </a:solidFill>
                <a:latin typeface="Arial"/>
              </a:rPr>
              <a:t>lynn.wheeler@firstdata.com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eaeaea"/>
                </a:solidFill>
                <a:latin typeface="Arial"/>
              </a:rPr>
              <a:t>http://www.garlic.com/~lynn/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HSD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7800" y="2379600"/>
            <a:ext cx="865188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“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ed” team for both NSFNET1 &amp; NSFNET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weren’t allowed to b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SFNET technical evaluation claimed what we were running was at least five years ahead of all bid submissions to build something new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84480" y="34920"/>
            <a:ext cx="7224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3 Layer Architecture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Expand client/server to provide focus and context for distributed ser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Genesis in my wife’s response to a government agency RFP for high-performance, reliable and secure computing infrastruc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4480" y="34920"/>
            <a:ext cx="7224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Electronic Commerce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onsulting for First Da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ssigned to work with small client/server startup in the val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tarted out straight-forward implementation flowing SSL over simple TC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rouble call took 3hrs resulting in NT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eded Failure Analysis and Trouble Desk Suppo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84480" y="34920"/>
            <a:ext cx="7224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Electronic Commerce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Built grid with something like 40 failure modes and five sta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eded to demonstrate recoverability, isolation, and/or problem determin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ransition from end-to-end circuit-based infrastructure to packet network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otally eliminated much of the service and diagnostic suppo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84480" y="34920"/>
            <a:ext cx="7224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Electronic Commerce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Had to invent diagnostic, trouble shooting and recovery procedu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epresented nearly five-fold increase in code associated with payment gatew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n addition, number of ancillary procedures put into pl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Object Oriented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One week JAD to look at supporting industrial strength compu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0% hit to all existing domains/templa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hree new templa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nstrument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all-o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ervice operation and trouble des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ich trap semantics for domain-specific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WEB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or most of financial industry computing, “insider” exploits have been major probl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Outsiders getting all the atten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ix all the problems associated with “outsiders” and get back to state of 20 years ag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Mostly Engineering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Best PDU in the industry not quite up to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hree engineering firms to redesig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Give back to compan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ecently claim that there are 1000 of the new PDUs at various gov. installations in Wash DC are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Mostly Engineering</a:t>
            </a: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40 maximum sized IBM mainfra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o system over 18 month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inor fixes month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wo software system upgrades a ye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5640" y="6888240"/>
            <a:ext cx="210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9" name=""/>
          <p:cNvSpPr/>
          <p:nvPr/>
        </p:nvSpPr>
        <p:spPr>
          <a:xfrm>
            <a:off x="3443400" y="6888240"/>
            <a:ext cx="3192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X9.59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uthenticated Transac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Eliminate account number as a “shared secre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Fast Facts about FDC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ff8f2b"/>
                </a:solidFill>
                <a:uFillTx/>
                <a:latin typeface="Times New Roman"/>
              </a:rPr>
              <a:t>First Data Corporation...</a:t>
            </a:r>
            <a:r>
              <a:rPr b="0" lang="en-GB" sz="2400" spc="-1" strike="noStrike">
                <a:solidFill>
                  <a:srgbClr val="ff8f2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oves over $1 trillion worldwide each year, representing 1/6 of the total U.S. GN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s the world’s leading third-party transaction process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rocesses and settles $5 billion electronic payment transactions for two million merchant loc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rocessed 7 billion cardholder transactions in 199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651880" y="6981840"/>
          <a:ext cx="142884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1880" y="6981840"/>
                    <a:ext cx="14288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6888240"/>
            <a:ext cx="210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3" name=""/>
          <p:cNvSpPr/>
          <p:nvPr/>
        </p:nvSpPr>
        <p:spPr>
          <a:xfrm>
            <a:off x="3443400" y="6888240"/>
            <a:ext cx="3192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AADS Chip-card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Business Centr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o “cryptography is the answer, now what is the questio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o “smartcard is the answer, now what is the questio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trong Authentication is the business requi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reate fundamental business building blo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optimal cost/benef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4480" y="34920"/>
            <a:ext cx="7224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Moving the World’s Money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Handles transactions for 72,000 Internet mercha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aintains relationships with over 82,000 agent locations in 176 countries through Western Union subsidia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rocessed over one billion off-line debit transactions last ye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ntroduced the first consumer charge card in 1914 through Western Un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1880" y="6981840"/>
          <a:ext cx="142884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1880" y="6981840"/>
                    <a:ext cx="14288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323800" y="2771640"/>
            <a:ext cx="5389560" cy="32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Denial of servi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Buffer Overflow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Email scrip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amous xmas greeting of 7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nsider iss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uniform respon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184480" y="34920"/>
            <a:ext cx="7224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Problems from the late 60s &amp; early 70s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HONE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ll IBM field, customer support, salesmen in the worl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tarting circa ‘74, systems could not be ordered without using H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arly 40,000 “online” accounts in the US al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tandard IBM operating system heavily modifi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Late ‘70s all the US HONE operations consolidated in Palo Alt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HONE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Build largest single-system image system in the worl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MP suppo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luster suppo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all-over and dynamic reconfigu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Year la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eplicate in Dall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ite fall-o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load shar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Disk Engineering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Lots of mainframes for testing in stand-alone ope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rivial “bare-bones” application to simulate I/O oper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Engineering environment is very hosti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deviate from product specs tens of times per seco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tandard operating system crashes in 15 minu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84480" y="447480"/>
            <a:ext cx="7224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HA/CMP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37800" y="1995120"/>
            <a:ext cx="8651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IX “unix” syst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imilar to work 10 years earlier in creating HONE infrastruc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Distributed Lock Manag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all-over manag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ailure mas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CP/IP ba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4480" y="34920"/>
            <a:ext cx="7224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8f2b"/>
                </a:solidFill>
                <a:latin typeface="Times New Roman"/>
              </a:rPr>
              <a:t>Late ‘80s, failure and vulnerability analysis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7800" y="2379600"/>
            <a:ext cx="865188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Buffer overflow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dentified as significa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-language convention of  implicit lengths increase occurrence by possibly two orders of magnit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denial of servi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lack of subsystem traps and control over network st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