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280040" y="10396800"/>
            <a:ext cx="3274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1A103-A1A4-4E10-8A19-F7CB1C9D222D}" type="slidenum">
              <a:rPr b="0" lang="en-GB" sz="1200" spc="-1" strike="noStrike">
                <a:solidFill>
                  <a:srgbClr val="000000"/>
                </a:solidFill>
                <a:latin typeface="Luxi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396800"/>
            <a:ext cx="3273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xi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3273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xi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7" name=""/>
          <p:cNvSpPr/>
          <p:nvPr/>
        </p:nvSpPr>
        <p:spPr>
          <a:xfrm>
            <a:off x="4280040" y="0"/>
            <a:ext cx="3274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xi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8" name=""/>
          <p:cNvSpPr/>
          <p:nvPr/>
        </p:nvSpPr>
        <p:spPr>
          <a:xfrm>
            <a:off x="427824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9" name=""/>
          <p:cNvSpPr/>
          <p:nvPr/>
        </p:nvSpPr>
        <p:spPr>
          <a:xfrm>
            <a:off x="4278240" y="10156680"/>
            <a:ext cx="32767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Luxi Sans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156680"/>
            <a:ext cx="327348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3273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80040" y="10396800"/>
            <a:ext cx="3274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308C3-AD46-4CE0-8BD2-AA69762B9301}" type="slidenum">
              <a:rPr b="0" lang="en-GB" sz="1200" spc="-1" strike="noStrike">
                <a:solidFill>
                  <a:srgbClr val="000000"/>
                </a:solidFill>
                <a:latin typeface="Luxi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396800"/>
            <a:ext cx="3273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xi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3273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xi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7" name=""/>
          <p:cNvSpPr/>
          <p:nvPr/>
        </p:nvSpPr>
        <p:spPr>
          <a:xfrm>
            <a:off x="4280040" y="0"/>
            <a:ext cx="3274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xi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8" name=""/>
          <p:cNvSpPr/>
          <p:nvPr/>
        </p:nvSpPr>
        <p:spPr>
          <a:xfrm>
            <a:off x="427824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9" name=""/>
          <p:cNvSpPr/>
          <p:nvPr/>
        </p:nvSpPr>
        <p:spPr>
          <a:xfrm>
            <a:off x="4278240" y="10156680"/>
            <a:ext cx="32767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Luxi San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156680"/>
            <a:ext cx="327348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3273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2" name=""/>
          <p:cNvSpPr/>
          <p:nvPr/>
        </p:nvSpPr>
        <p:spPr>
          <a:xfrm>
            <a:off x="427824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3" name=""/>
          <p:cNvSpPr/>
          <p:nvPr/>
        </p:nvSpPr>
        <p:spPr>
          <a:xfrm>
            <a:off x="4278240" y="10156680"/>
            <a:ext cx="32767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Luxi San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156680"/>
            <a:ext cx="327348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3273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6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80040" y="10396800"/>
            <a:ext cx="3274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54C81-EA45-43D3-A38C-2A1143F3E48F}" type="slidenum">
              <a:rPr b="0" lang="en-GB" sz="1200" spc="-1" strike="noStrike">
                <a:solidFill>
                  <a:srgbClr val="000000"/>
                </a:solidFill>
                <a:latin typeface="Luxi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0396800"/>
            <a:ext cx="3273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xi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3273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xi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280040" y="0"/>
            <a:ext cx="3274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xi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7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12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2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2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12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12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4640" y="2435040"/>
            <a:ext cx="6308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System Assurance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22560" y="3673080"/>
            <a:ext cx="630072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239760"/>
                <a:tab algn="l" pos="696960"/>
                <a:tab algn="l" pos="1154160"/>
                <a:tab algn="l" pos="1611360"/>
                <a:tab algn="l" pos="2068560"/>
                <a:tab algn="l" pos="2525760"/>
                <a:tab algn="l" pos="2982960"/>
                <a:tab algn="l" pos="3440160"/>
                <a:tab algn="l" pos="3897360"/>
                <a:tab algn="l" pos="4354560"/>
                <a:tab algn="l" pos="4811760"/>
                <a:tab algn="l" pos="5268960"/>
                <a:tab algn="l" pos="5726160"/>
                <a:tab algn="l" pos="6183360"/>
                <a:tab algn="l" pos="6640560"/>
                <a:tab algn="l" pos="7097760"/>
                <a:tab algn="l" pos="7554960"/>
                <a:tab algn="l" pos="8012160"/>
                <a:tab algn="l" pos="8469360"/>
                <a:tab algn="l" pos="8926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ynn Wheel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239760"/>
                <a:tab algn="l" pos="696960"/>
                <a:tab algn="l" pos="1154160"/>
                <a:tab algn="l" pos="1611360"/>
                <a:tab algn="l" pos="2068560"/>
                <a:tab algn="l" pos="2525760"/>
                <a:tab algn="l" pos="2982960"/>
                <a:tab algn="l" pos="3440160"/>
                <a:tab algn="l" pos="3897360"/>
                <a:tab algn="l" pos="4354560"/>
                <a:tab algn="l" pos="4811760"/>
                <a:tab algn="l" pos="5268960"/>
                <a:tab algn="l" pos="5726160"/>
                <a:tab algn="l" pos="6183360"/>
                <a:tab algn="l" pos="6640560"/>
                <a:tab algn="l" pos="7097760"/>
                <a:tab algn="l" pos="7554960"/>
                <a:tab algn="l" pos="8012160"/>
                <a:tab algn="l" pos="8469360"/>
                <a:tab algn="l" pos="8926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ynn@garlic.co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239760"/>
                <a:tab algn="l" pos="696960"/>
                <a:tab algn="l" pos="1154160"/>
                <a:tab algn="l" pos="1611360"/>
                <a:tab algn="l" pos="2068560"/>
                <a:tab algn="l" pos="2525760"/>
                <a:tab algn="l" pos="2982960"/>
                <a:tab algn="l" pos="3440160"/>
                <a:tab algn="l" pos="3897360"/>
                <a:tab algn="l" pos="4354560"/>
                <a:tab algn="l" pos="4811760"/>
                <a:tab algn="l" pos="5268960"/>
                <a:tab algn="l" pos="5726160"/>
                <a:tab algn="l" pos="6183360"/>
                <a:tab algn="l" pos="6640560"/>
                <a:tab algn="l" pos="7097760"/>
                <a:tab algn="l" pos="7554960"/>
                <a:tab algn="l" pos="8012160"/>
                <a:tab algn="l" pos="8469360"/>
                <a:tab algn="l" pos="8926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http://www.garlic.com/~lynn/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382480" y="2743200"/>
            <a:ext cx="53895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ffer Ov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ail scrip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ous xmas greeting from 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id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form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184480" y="0"/>
            <a:ext cx="7224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oblems from the late 60s &amp; early 70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4480" y="0"/>
            <a:ext cx="7224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ate ‘80s, failure and vulnerability analysi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7800" y="2379600"/>
            <a:ext cx="86518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ffer ov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rly ‘70s identified a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-language convention of  implicit lengths increase occurrence by possibly two orders of magn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0, 911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ck of subsystem traps and control over networ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6888240"/>
            <a:ext cx="210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3" name=""/>
          <p:cNvSpPr/>
          <p:nvPr/>
        </p:nvSpPr>
        <p:spPr>
          <a:xfrm>
            <a:off x="3443400" y="6888240"/>
            <a:ext cx="3192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6888240"/>
            <a:ext cx="210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5" name=""/>
          <p:cNvSpPr/>
          <p:nvPr/>
        </p:nvSpPr>
        <p:spPr>
          <a:xfrm>
            <a:off x="3443400" y="6888240"/>
            <a:ext cx="3192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ater problem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3120" y="2019240"/>
            <a:ext cx="865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ail scrip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urit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udents interested in breaking in, not designing and implementing robust infra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otally im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3 KISS, flip a bi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6888240"/>
            <a:ext cx="210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9" name=""/>
          <p:cNvSpPr/>
          <p:nvPr/>
        </p:nvSpPr>
        <p:spPr>
          <a:xfrm>
            <a:off x="3443400" y="6888240"/>
            <a:ext cx="3192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6888240"/>
            <a:ext cx="210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1" name=""/>
          <p:cNvSpPr/>
          <p:nvPr/>
        </p:nvSpPr>
        <p:spPr>
          <a:xfrm>
            <a:off x="3443400" y="6888240"/>
            <a:ext cx="3192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X9.59 Financial Standar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2336760"/>
            <a:ext cx="813456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rve the integrity of the financial infrastructure for all electronic retail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ssage integrity and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usted digital signature implie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4480" y="0"/>
            <a:ext cx="7224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ADS Strong Authentic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37800" y="1995480"/>
            <a:ext cx="865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gle ECC digital signature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gle function, secure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online application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6888240"/>
            <a:ext cx="210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7" name=""/>
          <p:cNvSpPr/>
          <p:nvPr/>
        </p:nvSpPr>
        <p:spPr>
          <a:xfrm>
            <a:off x="3443400" y="6888240"/>
            <a:ext cx="3192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ADS Chip-car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7800" y="1995480"/>
            <a:ext cx="865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siness Cen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“cryptography is the answer, now what is the ques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“smartcard is the answer, now what is the ques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 Authentication is the business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ate fundamental business building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216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mal cost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Fast Facts about FDC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7800" y="1995480"/>
            <a:ext cx="865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25236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ff8f2b"/>
                </a:solidFill>
                <a:uFillTx/>
                <a:latin typeface="Times New Roman"/>
              </a:rPr>
              <a:t>First Data Corporation...</a:t>
            </a:r>
            <a:r>
              <a:rPr b="0" lang="en-GB" sz="2400" spc="-1" strike="noStrike">
                <a:solidFill>
                  <a:srgbClr val="ff8f2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5236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es over $1 trillion worldwide each year, representing 1/6 of the total U.S. G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5236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world’s leading third-party transaction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5236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es and settles $5 billion electronic payment transactions for two million merchant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5236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ed 7 billion cardholder transactions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651880" y="6981840"/>
          <a:ext cx="142884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1880" y="6981840"/>
                    <a:ext cx="14288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4480" y="0"/>
            <a:ext cx="7224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ving the World’s Mone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37800" y="1995480"/>
            <a:ext cx="865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les transactions for 72,000 Internet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ains relationships with over 82,000 agent locations in 176 countries through Western Union subsid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ed over one billion off-line debit transactions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ed the first consumer charge card in 1914 through Western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23760"/>
                <a:tab algn="l" pos="480960"/>
                <a:tab algn="l" pos="938160"/>
                <a:tab algn="l" pos="1395360"/>
                <a:tab algn="l" pos="1852560"/>
                <a:tab algn="l" pos="2309760"/>
                <a:tab algn="l" pos="2766960"/>
                <a:tab algn="l" pos="3224160"/>
                <a:tab algn="l" pos="3681360"/>
                <a:tab algn="l" pos="4138560"/>
                <a:tab algn="l" pos="4595760"/>
                <a:tab algn="l" pos="5052960"/>
                <a:tab algn="l" pos="5510160"/>
                <a:tab algn="l" pos="5967360"/>
                <a:tab algn="l" pos="6424560"/>
                <a:tab algn="l" pos="6881760"/>
                <a:tab algn="l" pos="7338960"/>
                <a:tab algn="l" pos="7796160"/>
                <a:tab algn="l" pos="8253360"/>
                <a:tab algn="l" pos="871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651880" y="6981840"/>
          <a:ext cx="142884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1880" y="6981840"/>
                    <a:ext cx="14288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