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616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69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3480"/>
            <a:ext cx="7769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680" y="160020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348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6680" y="381348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0128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000" y="1600200"/>
            <a:ext cx="250128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8920" y="1600200"/>
            <a:ext cx="250128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3480"/>
            <a:ext cx="250128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2000" y="3813480"/>
            <a:ext cx="250128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8920" y="3813480"/>
            <a:ext cx="250128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7691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69160" cy="42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791160" cy="42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600200"/>
            <a:ext cx="3791160" cy="42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600200"/>
            <a:ext cx="3791160" cy="42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348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791160" cy="42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60020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6680" y="381348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680" y="1600200"/>
            <a:ext cx="3791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3480"/>
            <a:ext cx="776916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5881680"/>
            <a:ext cx="8840880" cy="531720"/>
            <a:chOff x="152280" y="5881680"/>
            <a:chExt cx="8840880" cy="531720"/>
          </a:xfrm>
        </p:grpSpPr>
        <p:sp>
          <p:nvSpPr>
            <p:cNvPr id="1" name=""/>
            <p:cNvSpPr/>
            <p:nvPr/>
          </p:nvSpPr>
          <p:spPr>
            <a:xfrm>
              <a:off x="152280" y="5886360"/>
              <a:ext cx="8834400" cy="52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53966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5881680"/>
              <a:ext cx="8840880" cy="158760"/>
            </a:xfr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6062760"/>
              <a:ext cx="8840880" cy="158760"/>
            </a:xfr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6243480"/>
              <a:ext cx="8840880" cy="158760"/>
            </a:xfrm>
            <a:noFill/>
            <a:ln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5892840"/>
              <a:ext cx="8840880" cy="158760"/>
            </a:xfr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6073920"/>
              <a:ext cx="8840880" cy="158760"/>
            </a:xfrm>
            <a:noFill/>
            <a:ln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6254640"/>
              <a:ext cx="8840880" cy="158760"/>
            </a:xfr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769160" cy="42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320" y="1752480"/>
            <a:ext cx="8840520" cy="1613160"/>
            <a:chOff x="76320" y="1752480"/>
            <a:chExt cx="8840520" cy="1613160"/>
          </a:xfrm>
        </p:grpSpPr>
        <p:sp>
          <p:nvSpPr>
            <p:cNvPr id="52" name=""/>
            <p:cNvSpPr/>
            <p:nvPr/>
          </p:nvSpPr>
          <p:spPr>
            <a:xfrm>
              <a:off x="76320" y="1766880"/>
              <a:ext cx="8834400" cy="159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53966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320" y="1752480"/>
              <a:ext cx="8840520" cy="479520"/>
            </a:xfr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320" y="2886120"/>
              <a:ext cx="8840520" cy="479520"/>
            </a:xfr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381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ccount Authority Digital Signature - AA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3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ynn Whee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rst Data Cor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ynn@garlic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ttp://www.garlic.com/~lynn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13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| account# | balance | limit | name | address | public key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isting business process can be used for public key 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existing PKI terms, the account record represents the binding of attributes to the public key; however the actual orientation is core business operation (not an external oper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’t originate fraudulent transaction by knowing the public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X9.59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ance Industry standard for any account-based payment meth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ed on A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blic key is registered in account re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transactions are digital sig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X9.59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umer's financial institution both authenticates and authorizes the transa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n't separate authentication &amp; authorization ... security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rchant not involved in authentication or 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certificates spewing identity information all over th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X9.59 Payment C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9840" y="1911240"/>
            <a:ext cx="1816200" cy="105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88760" y="2190600"/>
            <a:ext cx="63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CF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968640"/>
            <a:ext cx="1816200" cy="105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26040" y="3968640"/>
            <a:ext cx="1816200" cy="105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26040" y="1911240"/>
            <a:ext cx="1816200" cy="105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27160" y="2266920"/>
            <a:ext cx="71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MF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1360" y="4324320"/>
            <a:ext cx="156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2560" y="4248000"/>
            <a:ext cx="166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960" y="1301760"/>
            <a:ext cx="1816200" cy="105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3000" y="157968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4960" y="4495680"/>
            <a:ext cx="19684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58680" y="4552920"/>
            <a:ext cx="96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X9.5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978280"/>
            <a:ext cx="1440" cy="105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73280" y="3181320"/>
            <a:ext cx="96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X9.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438280"/>
            <a:ext cx="20448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22520" y="1962000"/>
            <a:ext cx="138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ISO85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056960" y="2352600"/>
            <a:ext cx="1314360" cy="161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5120" y="3095640"/>
            <a:ext cx="258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public key regist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14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ccount Authority Digital Signature - AAD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siness-centric strong authent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grated into existing business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verages significant investment in high-integrity, account based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17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sinesses have long used accounts for identity and attribute bind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 financial infrastructure use information binding in accounts to authenticate non-face-to-face trans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ther's maiden na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N - Personal Identification Numb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SN - social security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 financial infrastructure can extend existing business processes to support higher integrity electronic commerce by adding public key binding and digital signature verification to existing account rec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 Based Authent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ute secure hash of document or trans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private key to encrypt the hash (forming digital sign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sh document/transaction and digital signature to recip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 Based Authent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ipient (account author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public key in account to authenticate digital 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identity/attribute information in the account to validate/authorize document or trans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verage existing account infra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es within existing business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s public key registration to exist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n't spray identity certificates all over the world raising privacy conc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n't rely on third parties and/or create additional liabilit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new identity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gital signature (only) appended on financial trans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sily fits into existing legacy financial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n't create new business dependenc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n't create additional systemic 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new failure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pecially critical to triple redundant, high integrity financial infra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ADS - Account Op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bit-card  account: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| account# | balance | name | address | mother's maiden name | pin | ssn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ther's maiden name, PIN, and SSN have drawback that they can be used to both originate a non-face-to-face transaction as well as verify a transaction (can generate fraudulent transaction by knowing valu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e Wheeler</cp:lastModifiedBy>
  <cp:revision>0</cp:revision>
  <dc:subject/>
  <dc:title>Diamond </dc:title>
</cp:coreProperties>
</file>